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820908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" y="4008960"/>
            <a:ext cx="820908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" y="400896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600" y="122724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200" y="122724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000" y="400896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600" y="400896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200" y="400896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E60-EB53-44D4-8403-2D21E65472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000" y="1227240"/>
            <a:ext cx="820908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E93-C559-490C-B137-71C5DC4C2C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820908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CE9-77E6-4D56-A32F-89ADDB0B78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40057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27240"/>
            <a:ext cx="40057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E26-C50F-4102-9A54-348EFD5DC2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FFA-BBE4-462B-9997-5AEDD8F0A7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57000" y="315000"/>
            <a:ext cx="6080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375-E955-4C0E-B977-FAE59BE88C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27240"/>
            <a:ext cx="40057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" y="400896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7E7-9D98-4B3E-9B44-C77E1B700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000" y="1227240"/>
            <a:ext cx="820908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40057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36E-5964-41FD-B261-791FAA4B38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" y="4008960"/>
            <a:ext cx="820908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E79-7060-4F09-AE7C-8A71BD25E1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820908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" y="4008960"/>
            <a:ext cx="820908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432-4F80-490C-A2B5-6C97AA4C42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000" y="400896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8C8-F118-429C-AD16-2E79C888BC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3600" y="122724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9200" y="122724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" y="400896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3600" y="400896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9200" y="4008960"/>
            <a:ext cx="26431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361-4A1E-408E-A82A-17BFD23D66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820908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40057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27240"/>
            <a:ext cx="40057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57000" y="315000"/>
            <a:ext cx="6080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27240"/>
            <a:ext cx="40057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" y="400896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40057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27240"/>
            <a:ext cx="40057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4008960"/>
            <a:ext cx="820908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227240"/>
            <a:ext cx="820908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19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12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55720" indent="-112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-112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-112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-112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4913" t="0" r="0" b="0"/>
          <a:stretch/>
        </p:blipFill>
        <p:spPr>
          <a:xfrm>
            <a:off x="0" y="0"/>
            <a:ext cx="1290600" cy="984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209520" y="243000"/>
            <a:ext cx="1284480" cy="5522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rcRect l="0" t="0" r="4915" b="0"/>
          <a:stretch/>
        </p:blipFill>
        <p:spPr>
          <a:xfrm>
            <a:off x="7853400" y="0"/>
            <a:ext cx="1290600" cy="9842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7381800" y="-69840"/>
            <a:ext cx="1639800" cy="108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219320" y="6552720"/>
            <a:ext cx="6705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1219320" y="6552720"/>
            <a:ext cx="6705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792432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5642-B5C9-4724-9CC7-42F90485FB1E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08432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800" y="35337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15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4304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969840"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69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69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allenge of Data Interoperability from an Operational Perspecti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Inform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dd Hug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RPA/IX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roved for Public Release, Distribution Unlimited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allenge of Data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8209080" cy="53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6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weapons systems employ different transformation algorithms, which can induce degradation of accuracy due to rounding and approximations . . 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rica’s warriors are not fighting with a common positional picture, despite technological adva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” (JP 3-09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ervices, and even different weapons platforms within the same Service, use a variety of coordinate formats.  A working knowledge of different formats is often lacking between Services, whi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induce error and/or delays to mission accomplis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” (Gruetzmacher et al 200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the major combat units, OEF/OIF 4 required specific capabilities supplemented  within the theater . . . As these additional capabilities were added, the tracking of decomposed unit level  organizations throughout the process became unmanageable . . 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most of this information is available somewhere,  it cannot be easily discovered or accessed in a timely manner, and does not render itself for easy  manipulation by compu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” (Chamberlain et al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roved for Public Release, Distribution Unlimited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3459240"/>
            <a:ext cx="701064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3611520"/>
            <a:ext cx="701064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992400"/>
            <a:ext cx="701064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11280" y="3230640"/>
          <a:ext cx="7086240" cy="3122640"/>
        </p:xfrm>
        <a:graphic>
          <a:graphicData uri="http://schemas.openxmlformats.org/drawingml/2006/table">
            <a:tbl>
              <a:tblPr/>
              <a:tblGrid>
                <a:gridCol w="7086240"/>
              </a:tblGrid>
              <a:tr h="31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14200" y="452592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ad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6426360"/>
            <a:ext cx="182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Timelin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6156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382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teroperability: In Illu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818028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roperability is rightly regarded as a pervasive, longstanding, and costly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has data interoperability research not enjoyed support commensurate with the severity of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help to consider data interoperability technology from a general operational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3280" y="3201840"/>
            <a:ext cx="22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ll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8160" y="3629160"/>
            <a:ext cx="28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able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94480" y="4303800"/>
            <a:ext cx="28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roved for Public Release, Distribution Unlimited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3880" y="3459240"/>
            <a:ext cx="701064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611520"/>
            <a:ext cx="701064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992400"/>
            <a:ext cx="701064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11280" y="3230640"/>
          <a:ext cx="7086240" cy="3122640"/>
        </p:xfrm>
        <a:graphic>
          <a:graphicData uri="http://schemas.openxmlformats.org/drawingml/2006/table">
            <a:tbl>
              <a:tblPr/>
              <a:tblGrid>
                <a:gridCol w="7086240"/>
              </a:tblGrid>
              <a:tr h="31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14200" y="452592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ad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6426360"/>
            <a:ext cx="182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Timelin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6156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382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33960" y="5097600"/>
            <a:ext cx="3483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ntional interoperability approaches take too long to achieve operational readiness and require too much down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809880" y="467820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878440" y="4700520"/>
            <a:ext cx="1584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843600" y="4911840"/>
            <a:ext cx="4222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11280" y="3535200"/>
            <a:ext cx="7086600" cy="2819520"/>
          </a:xfrm>
          <a:custGeom>
            <a:avLst/>
            <a:gdLst/>
            <a:ahLst/>
            <a:rect l="l" t="t" r="r" b="b"/>
            <a:pathLst>
              <a:path w="4464" h="1776">
                <a:moveTo>
                  <a:pt x="0" y="1776"/>
                </a:moveTo>
                <a:lnTo>
                  <a:pt x="1392" y="672"/>
                </a:lnTo>
                <a:lnTo>
                  <a:pt x="2208" y="0"/>
                </a:lnTo>
                <a:lnTo>
                  <a:pt x="2784" y="0"/>
                </a:lnTo>
                <a:lnTo>
                  <a:pt x="2784" y="672"/>
                </a:lnTo>
                <a:lnTo>
                  <a:pt x="3216" y="0"/>
                </a:lnTo>
                <a:lnTo>
                  <a:pt x="3696" y="0"/>
                </a:lnTo>
                <a:lnTo>
                  <a:pt x="3696" y="912"/>
                </a:lnTo>
                <a:lnTo>
                  <a:pt x="4128" y="0"/>
                </a:lnTo>
                <a:lnTo>
                  <a:pt x="446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93040" y="4492800"/>
            <a:ext cx="81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11640" y="4492800"/>
            <a:ext cx="8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0320" y="4492800"/>
            <a:ext cx="116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lo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teroperability: Convent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226880"/>
            <a:ext cx="82090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ment systems do work well at the enterpris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aspects make them not a good fit for agile, dynamic organizations . . . such as the military in times of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imes of conflict, operational timelines are to far too short for the enterprise acquisi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roved for Public Release, Distribution Unlimited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3880" y="3459240"/>
            <a:ext cx="701064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611520"/>
            <a:ext cx="701064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992400"/>
            <a:ext cx="701064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11280" y="3230640"/>
          <a:ext cx="7086240" cy="3122640"/>
        </p:xfrm>
        <a:graphic>
          <a:graphicData uri="http://schemas.openxmlformats.org/drawingml/2006/table">
            <a:tbl>
              <a:tblPr/>
              <a:tblGrid>
                <a:gridCol w="7086240"/>
              </a:tblGrid>
              <a:tr h="31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511280" y="3535200"/>
            <a:ext cx="7086600" cy="2819520"/>
          </a:xfrm>
          <a:custGeom>
            <a:avLst/>
            <a:gdLst/>
            <a:ahLst/>
            <a:rect l="l" t="t" r="r" b="b"/>
            <a:pathLst>
              <a:path w="4464" h="1776">
                <a:moveTo>
                  <a:pt x="0" y="1776"/>
                </a:moveTo>
                <a:lnTo>
                  <a:pt x="1392" y="672"/>
                </a:lnTo>
                <a:lnTo>
                  <a:pt x="2208" y="0"/>
                </a:lnTo>
                <a:lnTo>
                  <a:pt x="2784" y="0"/>
                </a:lnTo>
                <a:lnTo>
                  <a:pt x="2784" y="672"/>
                </a:lnTo>
                <a:lnTo>
                  <a:pt x="3216" y="0"/>
                </a:lnTo>
                <a:lnTo>
                  <a:pt x="3696" y="0"/>
                </a:lnTo>
                <a:lnTo>
                  <a:pt x="3696" y="912"/>
                </a:lnTo>
                <a:lnTo>
                  <a:pt x="4128" y="0"/>
                </a:lnTo>
                <a:lnTo>
                  <a:pt x="446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11280" y="3176640"/>
            <a:ext cx="7099200" cy="3178080"/>
          </a:xfrm>
          <a:custGeom>
            <a:avLst/>
            <a:gdLst/>
            <a:ahLst/>
            <a:rect l="l" t="t" r="r" b="b"/>
            <a:pathLst>
              <a:path w="4472" h="2002">
                <a:moveTo>
                  <a:pt x="0" y="2002"/>
                </a:moveTo>
                <a:cubicBezTo>
                  <a:pt x="358" y="1713"/>
                  <a:pt x="1661" y="532"/>
                  <a:pt x="2147" y="266"/>
                </a:cubicBezTo>
                <a:cubicBezTo>
                  <a:pt x="2633" y="0"/>
                  <a:pt x="2736" y="411"/>
                  <a:pt x="2915" y="404"/>
                </a:cubicBezTo>
                <a:cubicBezTo>
                  <a:pt x="3094" y="397"/>
                  <a:pt x="3111" y="258"/>
                  <a:pt x="3224" y="226"/>
                </a:cubicBezTo>
                <a:cubicBezTo>
                  <a:pt x="3337" y="194"/>
                  <a:pt x="3490" y="181"/>
                  <a:pt x="3592" y="212"/>
                </a:cubicBezTo>
                <a:cubicBezTo>
                  <a:pt x="3694" y="243"/>
                  <a:pt x="3752" y="408"/>
                  <a:pt x="3839" y="413"/>
                </a:cubicBezTo>
                <a:cubicBezTo>
                  <a:pt x="3926" y="418"/>
                  <a:pt x="4007" y="273"/>
                  <a:pt x="4112" y="242"/>
                </a:cubicBezTo>
                <a:cubicBezTo>
                  <a:pt x="4217" y="211"/>
                  <a:pt x="4397" y="229"/>
                  <a:pt x="4472" y="22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4200" y="452592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ad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6426360"/>
            <a:ext cx="182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Timelin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35560" y="5075280"/>
            <a:ext cx="304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emantic Web promises greater extensibility and robustness, but the startup costs are still enormou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973840" y="3908160"/>
            <a:ext cx="133200" cy="10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6156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382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620040" y="3843360"/>
            <a:ext cx="917280" cy="11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teroperability: Semantic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82090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mantic Web offers a better value proposition by enabling interoperability on an open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of admission is still high: Semantic Web services, ontology engineering, client applications, service oriented architectur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stream benefit of new semantic capabilities are difficult to qua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roved for Public Release, Distribution Unlimited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3880" y="3459240"/>
            <a:ext cx="701064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611520"/>
            <a:ext cx="701064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3992400"/>
            <a:ext cx="701064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11280" y="3230640"/>
          <a:ext cx="7086240" cy="3122640"/>
        </p:xfrm>
        <a:graphic>
          <a:graphicData uri="http://schemas.openxmlformats.org/drawingml/2006/table">
            <a:tbl>
              <a:tblPr/>
              <a:tblGrid>
                <a:gridCol w="7086240"/>
              </a:tblGrid>
              <a:tr h="31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511280" y="3535200"/>
            <a:ext cx="7086600" cy="2819520"/>
          </a:xfrm>
          <a:custGeom>
            <a:avLst/>
            <a:gdLst/>
            <a:ahLst/>
            <a:rect l="l" t="t" r="r" b="b"/>
            <a:pathLst>
              <a:path w="4464" h="1776">
                <a:moveTo>
                  <a:pt x="0" y="1776"/>
                </a:moveTo>
                <a:lnTo>
                  <a:pt x="1392" y="672"/>
                </a:lnTo>
                <a:lnTo>
                  <a:pt x="2208" y="0"/>
                </a:lnTo>
                <a:lnTo>
                  <a:pt x="2784" y="0"/>
                </a:lnTo>
                <a:lnTo>
                  <a:pt x="2784" y="672"/>
                </a:lnTo>
                <a:lnTo>
                  <a:pt x="3216" y="0"/>
                </a:lnTo>
                <a:lnTo>
                  <a:pt x="3696" y="0"/>
                </a:lnTo>
                <a:lnTo>
                  <a:pt x="3696" y="912"/>
                </a:lnTo>
                <a:lnTo>
                  <a:pt x="4128" y="0"/>
                </a:lnTo>
                <a:lnTo>
                  <a:pt x="446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11280" y="3176640"/>
            <a:ext cx="7099200" cy="3178080"/>
          </a:xfrm>
          <a:custGeom>
            <a:avLst/>
            <a:gdLst/>
            <a:ahLst/>
            <a:rect l="l" t="t" r="r" b="b"/>
            <a:pathLst>
              <a:path w="4472" h="2002">
                <a:moveTo>
                  <a:pt x="0" y="2002"/>
                </a:moveTo>
                <a:cubicBezTo>
                  <a:pt x="358" y="1713"/>
                  <a:pt x="1661" y="532"/>
                  <a:pt x="2147" y="266"/>
                </a:cubicBezTo>
                <a:cubicBezTo>
                  <a:pt x="2633" y="0"/>
                  <a:pt x="2736" y="411"/>
                  <a:pt x="2915" y="404"/>
                </a:cubicBezTo>
                <a:cubicBezTo>
                  <a:pt x="3094" y="397"/>
                  <a:pt x="3111" y="258"/>
                  <a:pt x="3224" y="226"/>
                </a:cubicBezTo>
                <a:cubicBezTo>
                  <a:pt x="3337" y="194"/>
                  <a:pt x="3490" y="181"/>
                  <a:pt x="3592" y="212"/>
                </a:cubicBezTo>
                <a:cubicBezTo>
                  <a:pt x="3694" y="243"/>
                  <a:pt x="3752" y="408"/>
                  <a:pt x="3839" y="413"/>
                </a:cubicBezTo>
                <a:cubicBezTo>
                  <a:pt x="3926" y="418"/>
                  <a:pt x="4007" y="273"/>
                  <a:pt x="4112" y="242"/>
                </a:cubicBezTo>
                <a:cubicBezTo>
                  <a:pt x="4217" y="211"/>
                  <a:pt x="4397" y="229"/>
                  <a:pt x="4472" y="22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452592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ad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6426360"/>
            <a:ext cx="182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Timelin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203560" y="3966840"/>
            <a:ext cx="1603440" cy="13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6156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382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743280" y="3580920"/>
            <a:ext cx="549360" cy="200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441600"/>
            <a:ext cx="7157880" cy="2922840"/>
          </a:xfrm>
          <a:custGeom>
            <a:avLst/>
            <a:gdLst/>
            <a:ahLst/>
            <a:rect l="l" t="t" r="r" b="b"/>
            <a:pathLst>
              <a:path w="4509" h="1841">
                <a:moveTo>
                  <a:pt x="37" y="1841"/>
                </a:moveTo>
                <a:cubicBezTo>
                  <a:pt x="103" y="1584"/>
                  <a:pt x="0" y="602"/>
                  <a:pt x="432" y="301"/>
                </a:cubicBezTo>
                <a:cubicBezTo>
                  <a:pt x="864" y="0"/>
                  <a:pt x="2210" y="35"/>
                  <a:pt x="2626" y="35"/>
                </a:cubicBezTo>
                <a:cubicBezTo>
                  <a:pt x="3042" y="35"/>
                  <a:pt x="2822" y="296"/>
                  <a:pt x="2928" y="301"/>
                </a:cubicBezTo>
                <a:cubicBezTo>
                  <a:pt x="3034" y="306"/>
                  <a:pt x="3144" y="107"/>
                  <a:pt x="3261" y="65"/>
                </a:cubicBezTo>
                <a:cubicBezTo>
                  <a:pt x="3378" y="23"/>
                  <a:pt x="3522" y="39"/>
                  <a:pt x="3629" y="51"/>
                </a:cubicBezTo>
                <a:cubicBezTo>
                  <a:pt x="3736" y="63"/>
                  <a:pt x="3819" y="131"/>
                  <a:pt x="3906" y="136"/>
                </a:cubicBezTo>
                <a:cubicBezTo>
                  <a:pt x="3993" y="141"/>
                  <a:pt x="4049" y="93"/>
                  <a:pt x="4149" y="81"/>
                </a:cubicBezTo>
                <a:cubicBezTo>
                  <a:pt x="4249" y="69"/>
                  <a:pt x="4434" y="68"/>
                  <a:pt x="4509" y="6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teroperability: An Altern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82090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joint and multinational military operations will need to integrate in days, not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roperability technology must support ad hoc communities of interest with their respective legacy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abling the integration is fully assured, a serviceable level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echnology framework would make this poss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89880" y="3692160"/>
            <a:ext cx="904680" cy="22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6320" y="4780080"/>
            <a:ext cx="46875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Alternative Approach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hieve serviceable interoperability rapid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olve toward full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 to update more efficiently the next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roved for Public Release, Distribution Unlimited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6080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al: A Data Translation Appl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40273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transparent 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s content from a data sources or  their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orms content into syntactically well-formed and semantically equivalent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s messages to other sources or their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eld configurable by data us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ot database administ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board intelligence, learning, and interface capabil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s users to encode information transformation routines in a timely m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ar domain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ggable Community of Interest Ont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s operational integrated information exploit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data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ggediz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if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-deploy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73800" y="898560"/>
            <a:ext cx="381240" cy="600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45000" y="1965240"/>
            <a:ext cx="3429000" cy="1981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68880" y="2684520"/>
            <a:ext cx="533520" cy="627120"/>
          </a:xfrm>
          <a:custGeom>
            <a:avLst/>
            <a:gdLst/>
            <a:ahLst/>
            <a:rect l="l" t="t" r="r" b="b"/>
            <a:pathLst>
              <a:path w="336" h="688">
                <a:moveTo>
                  <a:pt x="0" y="688"/>
                </a:moveTo>
                <a:lnTo>
                  <a:pt x="122" y="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151600" y="1829520"/>
            <a:ext cx="550800" cy="693720"/>
          </a:xfrm>
          <a:custGeom>
            <a:avLst/>
            <a:gdLst/>
            <a:ahLst/>
            <a:rect l="l" t="t" r="r" b="b"/>
            <a:pathLst>
              <a:path w="336" h="688">
                <a:moveTo>
                  <a:pt x="0" y="688"/>
                </a:moveTo>
                <a:lnTo>
                  <a:pt x="122" y="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38800" y="1415880"/>
            <a:ext cx="728640" cy="1052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 rot="10800000">
            <a:off x="7005600" y="1727640"/>
            <a:ext cx="1100160" cy="507960"/>
          </a:xfrm>
          <a:custGeom>
            <a:avLst/>
            <a:gdLst/>
            <a:ahLst/>
            <a:rect l="l" t="t" r="r" b="b"/>
            <a:pathLst>
              <a:path w="336" h="688">
                <a:moveTo>
                  <a:pt x="0" y="688"/>
                </a:moveTo>
                <a:lnTo>
                  <a:pt x="122" y="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80200" y="1184400"/>
            <a:ext cx="642960" cy="981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02480" y="958680"/>
            <a:ext cx="560160" cy="860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41960" y="1808280"/>
            <a:ext cx="28728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30600" y="1812960"/>
            <a:ext cx="533520" cy="458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929200" y="1279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8188200" y="1584360"/>
            <a:ext cx="457200" cy="372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92920" y="898560"/>
            <a:ext cx="380880" cy="600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6958080" y="1127160"/>
            <a:ext cx="239760" cy="1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7350120" y="1127160"/>
            <a:ext cx="228600" cy="152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648320" y="4084560"/>
            <a:ext cx="4029120" cy="246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tic Technology Embedded in Translati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dexing and taxon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odel extraction and enric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ode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lation and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67160" y="2919240"/>
            <a:ext cx="922320" cy="1268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rcRect l="0" t="0" r="2227" b="0"/>
          <a:stretch/>
        </p:blipFill>
        <p:spPr>
          <a:xfrm>
            <a:off x="4606920" y="3413160"/>
            <a:ext cx="485640" cy="62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6725880" y="1452600"/>
            <a:ext cx="34596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45200" y="1050840"/>
            <a:ext cx="381240" cy="600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7121520" y="1279440"/>
            <a:ext cx="223920" cy="1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roved for Public Release, Distribution Unlimited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57000" y="315000"/>
            <a:ext cx="7088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pects for a Data Translation Appl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227240"/>
            <a:ext cx="820908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ance model of integration is not without challenges, both technical and oper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may be a useful framework for discussion about the elements a successful research program in this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19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ba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19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19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19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19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19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device would provide a tangible means for dat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directly involved in meeting their operational objec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pproved for Public Release, Distribution Unlimited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Administrator</cp:lastModifiedBy>
  <cp:lastPrinted>2006-05-11T13:14:17Z</cp:lastPrinted>
  <dcterms:modified xsi:type="dcterms:W3CDTF">2006-10-26T15:26:11Z</dcterms:modified>
  <cp:revision>148</cp:revision>
  <dc:subject/>
  <dc:title>PowerPoint Presentation</dc:title>
</cp:coreProperties>
</file>