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BD2-B777-4A68-90FF-5967EF91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D4F-C058-4B89-B74D-D623BDE9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0AC-9E98-4AD0-90F9-3B0EAD44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E63-AFD7-4B14-9512-D9E1F3B5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499B-3A49-4477-A0F2-5372B23D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AAE6-4E8A-4EE6-9ACD-6D56BB8E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CE91-A47C-4743-92DC-ECA1090A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68C-CD12-40C0-A1F7-07337682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77F3-ED4F-4224-A61F-3153C235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911A-AAD4-476F-A8DE-0F571C73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F3D-CC4B-422F-B939-A7EBB299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FED4-486C-4409-A6B9-A1B1484B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31BCB-F26C-40A7-BDDD-68E1F3907F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folken@nsf.gov" TargetMode="External"/><Relationship Id="rId2" Type="http://schemas.openxmlformats.org/officeDocument/2006/relationships/hyperlink" Target="mailto:mzemanko@nsf.gov" TargetMode="External"/><Relationship Id="rId3" Type="http://schemas.openxmlformats.org/officeDocument/2006/relationships/hyperlink" Target="mailto:sspengle@nsf.gov" TargetMode="External"/><Relationship Id="rId4" Type="http://schemas.openxmlformats.org/officeDocument/2006/relationships/hyperlink" Target="mailto:sgriffin@nsf.gov" TargetMode="External"/><Relationship Id="rId5" Type="http://schemas.openxmlformats.org/officeDocument/2006/relationships/hyperlink" Target="mailto:lbrandt@nsf.gov" TargetMode="External"/><Relationship Id="rId6" Type="http://schemas.openxmlformats.org/officeDocument/2006/relationships/hyperlink" Target="mailto:lgruenwa@nsf.gov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tkorelsky@nsf.gov" TargetMode="External"/><Relationship Id="rId2" Type="http://schemas.openxmlformats.org/officeDocument/2006/relationships/hyperlink" Target="mailto:erissland@nsf.gov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cgreer@nsf.gov" TargetMode="External"/><Relationship Id="rId2" Type="http://schemas.openxmlformats.org/officeDocument/2006/relationships/hyperlink" Target="mailto:kthompso@nsf.gov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81000"/>
            <a:ext cx="90723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NSF Support for Semantic Web Research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rank Ol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tional Science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SE/I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tional Semantic Web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hens, 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v. 7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oposal Deadlines for 06-57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SF 06-572 Program Soli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dline for small (&lt;$450K) proposals is Dec. 6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dlines for large ($900K-$1.8M) and medium ($450K-$900K) proposals hav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one solicitation for IIS division this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ture solicitations expected annually with similar dead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. Olken, NSF Funding of Semantic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D342-C6A9-4FA6-BB6E-019E0F359C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11-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tact Information for NSF CISE / IIS / II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9920" y="1371240"/>
            <a:ext cx="9072360" cy="54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ank Olk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folken@nsf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semantics, data/ontology integration, workflow, eng./sci. informatics, metadata registries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ia Zemankov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mzemanko@nsf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owledge management, information retrieval, workflow, vizualization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ylvia Spengl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sspengle@nsf.go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III Cluster Lea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tologies, bioinformatics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ve Griff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griffin@nsf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gital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rry Brand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lbrandt@nsf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gital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 Gruenwal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lgruenwa@nsf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management, security and privacy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. Olken, NSF Funding of Semantic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1011-B0FF-4DC9-B397-EB58ABC98C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11-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SF/CISE/I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nya Korelsky,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korelsky@nsf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tural Language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wina Rissland,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erissland@nsf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tificial Intelligence, Knowledge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. Olken, NSF Funding of Semantic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694C-257C-4B68-A7CC-9F165DE835A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11-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SF Office of Cyberinfrastructu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ris Greer,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greer@nsf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Management cyberinfrastructure, bioinformatics, data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vin Thompson,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kthompso@nsf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/ middleware cyber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e hi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itional staff in data collections, knowled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. Olken, NSF Funding of Semantic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FB65-00F0-4296-B949-2375C5FA61C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11-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emantic Web Funding at NSF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SF is routinely funding semantic web research proposals as part of its normal research programs and solicita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. Olken, NSF Funding of Semantic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68D-A5E5-440D-A799-4E7DDFDACA0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11-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emantic Web Proposals Funded by NSF  (active award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326520" cy="89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5 awards=  “semantic web” in title/abstr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92 awards = “semantic” and “web”  in title/abstr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91 awards = “ontology” in title/abstr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6 awards = “ontology” in title on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48 awards = “semantic” in title on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80 awards = “semantic” in  title/abstr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me of these are traditional linguistics or programming language seman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8 awards = “knowledge representation” in title/abstr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otal IIS active awards = 1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. Olken, NSF Funding of Semantic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15FC-1FCA-46DA-9C97-F5136CEB39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11-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unding of Semantic Web Proposals by NSF Divis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SE/IIS – DM, KM, IR, science informatics, ecoinformatics, AI, machine learning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SE/CCF -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SE/CNS –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BE/BCS – e.g., lingu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/DBI – bioinfor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CI – cyberinfrastru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. Olken, NSF Funding of Semantic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D6EB-4DC2-4B0A-A000-71ECE03256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11-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y does NSF care about semantic web technologie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3265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alization of scientific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ilitate sharing of scientific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ilitate access to scientific data an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tural language processing (information extraction, digital libraries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for digital government (semantic rules languages, disaster support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for machin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for math/scienc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. Olken, NSF Funding of Semantic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31E-ACB0-4A52-9983-81FCD17DC5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11-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bates about support of semantic web researc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epticism about adoption of semantic tagging by the m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SF is concerned about scientific / govt uses, not My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epticism by the database research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ill somewhat an issue, because semantic proposals often go to to DB pa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epticism about scalability of semantic search and inference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research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. Olken, NSF Funding of Semantic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E317-57A6-4AC8-899D-43684D7F42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11-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ere to apply for NSF funding for semantic web research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SE/IIS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II (Information Integration and Informat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s data management, information retrieval, knowledge management, digital libraries, digit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 (Robust Intellig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s machine learning, artificial intelligence, speech, vision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SE  CNS Division (sys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SE  CCF Division (the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. Olken, NSF Funding of Semantic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3F2-8D96-4AF6-B9E5-54D594F901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11-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ere to apply for NSF funding for semantic web research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logy, Geosciences, ... directo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 domain specific ontologies for their specific research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fund software tools for particular research areas – e.g., bioinformatics sequence annotation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. Olken, NSF Funding of Semantic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394-1B4C-41DB-B666-25575B163D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11-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ere to apply for NSF funding of semantic web developmen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ISE/C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s infrastructure for computer science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CI (Office of CyberInfra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s software development for tools of use to broad scientific communities (biology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ticipates funding data exchange standards and domain specific ontolog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te:  CRI and OCI support infrastructure, not direct research support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. Olken, NSF Funding of Semantic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16CB-3622-4F44-9061-FE8CF71A30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11-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Olken</cp:lastModifiedBy>
  <cp:revision>0</cp:revision>
  <dc:subject/>
  <dc:title/>
</cp:coreProperties>
</file>