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EBE37F1-DD85-4AE4-A48D-62D0E0EE1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Arial"/>
              </a:rPr>
              <a:t>Updated 10/10/2006 per Lars Aggerbeck – added time constraint for Euratom FO to FP7 proposal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Arial"/>
              </a:rPr>
              <a:t>Updated October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1741605-B11F-4764-AEEF-8901DBB17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Arial"/>
              </a:rPr>
              <a:t>Updated 3/10/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Arial"/>
              </a:rPr>
              <a:t>Updated 3/10/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FB0FFCC-B3FC-40D4-98FB-A1762307E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Arial"/>
              </a:rPr>
              <a:t>Updated from May/June 2006 COM propos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36600" y="1417320"/>
            <a:ext cx="838656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36600" y="3792240"/>
            <a:ext cx="838656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6600" y="1417320"/>
            <a:ext cx="40924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3920" y="1417320"/>
            <a:ext cx="40924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6600" y="3792240"/>
            <a:ext cx="40924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3920" y="3792240"/>
            <a:ext cx="40924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36600" y="1417320"/>
            <a:ext cx="270036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2320" y="1417320"/>
            <a:ext cx="270036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8040" y="1417320"/>
            <a:ext cx="270036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36600" y="3792240"/>
            <a:ext cx="270036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2320" y="3792240"/>
            <a:ext cx="270036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8040" y="3792240"/>
            <a:ext cx="270036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36600" y="1417320"/>
            <a:ext cx="838656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6600" y="1417320"/>
            <a:ext cx="838656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6600" y="1417320"/>
            <a:ext cx="409248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3920" y="1417320"/>
            <a:ext cx="409248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49160" y="231480"/>
            <a:ext cx="7226280" cy="41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6600" y="1417320"/>
            <a:ext cx="40924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3920" y="1417320"/>
            <a:ext cx="409248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36600" y="3792240"/>
            <a:ext cx="40924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36600" y="1417320"/>
            <a:ext cx="838656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36600" y="1417320"/>
            <a:ext cx="409248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3920" y="1417320"/>
            <a:ext cx="40924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3920" y="3792240"/>
            <a:ext cx="40924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36600" y="1417320"/>
            <a:ext cx="40924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3920" y="1417320"/>
            <a:ext cx="40924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36600" y="3792240"/>
            <a:ext cx="838656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6600" y="1417320"/>
            <a:ext cx="838656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6600" y="3792240"/>
            <a:ext cx="838656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6600" y="1417320"/>
            <a:ext cx="40924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3920" y="1417320"/>
            <a:ext cx="40924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36600" y="3792240"/>
            <a:ext cx="40924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3920" y="3792240"/>
            <a:ext cx="40924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6600" y="1417320"/>
            <a:ext cx="270036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72320" y="1417320"/>
            <a:ext cx="270036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8040" y="1417320"/>
            <a:ext cx="270036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36600" y="3792240"/>
            <a:ext cx="270036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72320" y="3792240"/>
            <a:ext cx="270036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8040" y="3792240"/>
            <a:ext cx="270036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6600" y="1417320"/>
            <a:ext cx="838656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6600" y="1417320"/>
            <a:ext cx="409248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3920" y="1417320"/>
            <a:ext cx="409248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49160" y="231480"/>
            <a:ext cx="7226280" cy="41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6600" y="1417320"/>
            <a:ext cx="40924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3920" y="1417320"/>
            <a:ext cx="409248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36600" y="3792240"/>
            <a:ext cx="40924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6600" y="1417320"/>
            <a:ext cx="409248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3920" y="1417320"/>
            <a:ext cx="40924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3920" y="3792240"/>
            <a:ext cx="40924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6600" y="1417320"/>
            <a:ext cx="40924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3920" y="1417320"/>
            <a:ext cx="40924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36600" y="3792240"/>
            <a:ext cx="838656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6600" y="1417320"/>
            <a:ext cx="838656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spcAft>
                <a:spcPts val="1400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spcAft>
                <a:spcPts val="1400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spcAft>
                <a:spcPts val="1400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358640" indent="-198720">
              <a:spcBef>
                <a:spcPts val="799"/>
              </a:spcBef>
              <a:spcAft>
                <a:spcPts val="1400"/>
              </a:spcAft>
              <a:buClr>
                <a:srgbClr val="0000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1723320" indent="-198720">
              <a:spcBef>
                <a:spcPts val="799"/>
              </a:spcBef>
              <a:spcAft>
                <a:spcPts val="1400"/>
              </a:spcAft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1723320" indent="-198720">
              <a:spcBef>
                <a:spcPts val="799"/>
              </a:spcBef>
              <a:spcAft>
                <a:spcPts val="1400"/>
              </a:spcAft>
              <a:buClr>
                <a:srgbClr val="0000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1723320" indent="-198720">
              <a:spcBef>
                <a:spcPts val="799"/>
              </a:spcBef>
              <a:spcAft>
                <a:spcPts val="1400"/>
              </a:spcAft>
              <a:buClr>
                <a:srgbClr val="0000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47600" y="6681960"/>
            <a:ext cx="88171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198360"/>
            <a:ext cx="1557360" cy="6922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rcRect l="4214" t="9920" r="5229" b="9230"/>
          <a:stretch/>
        </p:blipFill>
        <p:spPr>
          <a:xfrm>
            <a:off x="50760" y="6010200"/>
            <a:ext cx="1336680" cy="8175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8031240" y="5985000"/>
            <a:ext cx="931680" cy="7556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486240" y="6134040"/>
            <a:ext cx="2170080" cy="53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200" y="1111320"/>
            <a:ext cx="867276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4214" t="9920" r="5229" b="9230"/>
          <a:stretch/>
        </p:blipFill>
        <p:spPr>
          <a:xfrm>
            <a:off x="7561440" y="147600"/>
            <a:ext cx="1336320" cy="817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35080" y="209520"/>
            <a:ext cx="931680" cy="755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824520" y="5805360"/>
            <a:ext cx="2170080" cy="538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spcAft>
                <a:spcPts val="300"/>
              </a:spcAft>
              <a:buClr>
                <a:srgbClr val="4d4d4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33440" algn="ctr">
              <a:spcBef>
                <a:spcPts val="499"/>
              </a:spcBef>
              <a:spcAft>
                <a:spcPts val="249"/>
              </a:spcAft>
              <a:buClr>
                <a:srgbClr val="000099"/>
              </a:buClr>
              <a:buSzPct val="9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1752480" algn="ctr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SzPct val="9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400"/>
              </a:spcBef>
              <a:buClr>
                <a:srgbClr val="0000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400"/>
              </a:spcBef>
              <a:buClr>
                <a:srgbClr val="0000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idro.laso@cec.eu.int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ntra.infso.cec.eu.int/F4/whoweare/prof/isidro.htm" TargetMode="External"/><Relationship Id="rId2" Type="http://schemas.openxmlformats.org/officeDocument/2006/relationships/image" Target="../media/image9.jpeg"/><Relationship Id="rId3" Type="http://schemas.openxmlformats.org/officeDocument/2006/relationships/hyperlink" Target="mailto:isidro.laso@cec.eu.int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255680"/>
            <a:ext cx="914400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800000"/>
                </a:solidFill>
                <a:latin typeface="Arial"/>
              </a:rPr>
              <a:t>Collaboration@work 2020</a:t>
            </a:r>
            <a:br>
              <a:rPr sz="4400"/>
            </a:b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Corporate Semantic Web for Ubiquitous Collaboration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* </a:t>
            </a:r>
            <a:br>
              <a:rPr sz="1800"/>
            </a:br>
            <a:br>
              <a:rPr sz="2400"/>
            </a:b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ISWC2006</a:t>
            </a:r>
            <a:br>
              <a:rPr sz="2400"/>
            </a:b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Athens (Georgia, USA) </a:t>
            </a:r>
            <a:br>
              <a:rPr sz="2400"/>
            </a:b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07 November 2006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sidro Laso-Ballesteros</a:t>
            </a:r>
            <a:br>
              <a:rPr sz="1800"/>
            </a:br>
            <a:r>
              <a:rPr b="1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isidro.laso@cec.eu.int</a:t>
            </a: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New Working Environments Unit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G information Society and media</a:t>
            </a: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uropean Commission</a:t>
            </a:r>
            <a:br>
              <a:rPr sz="1200"/>
            </a:br>
            <a:br>
              <a:rPr sz="14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* The opinions expressed on this presentation do not necessarily reflect the official position of the European Commission.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49520" y="0"/>
            <a:ext cx="7254720" cy="83808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uture and Emerging technologies impacting on Collaboration@work 2020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36600" y="1417320"/>
            <a:ext cx="838656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400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o define our research agenda 2020 we have look at: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Web 2.0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Serious games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-Pod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-etiquette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ooperativity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orporate Semantic Web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700080" y="541440"/>
            <a:ext cx="14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Agenda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5360" y="1208160"/>
            <a:ext cx="89186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llaboration@work launched activities in 2006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ndings of the Collaboration@work Experts Group: research lines 2020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sion 2020: Ubiquitous Collabora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Web 2.0 – Lessons learned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search lines 2020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CT in FP7 (EU RTD Framework programme 2007-2013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search on Collaboration in FP7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new paradigm of collaboration: web 2.0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36600" y="1417320"/>
            <a:ext cx="838656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n approach that deserves to be followed, beyond a buzzword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 aspects of web 2.0 that will remain: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entered on collaboration between people (non transactional)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Lightweight and simple technology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articipatory and decentralised component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entered on content creation, publishing and distribution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b 2.0 today (2006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36240" y="1228680"/>
            <a:ext cx="847404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400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ree components: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Technology and architecture: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consisting of web-oriented architecture (WOAs) and web platforms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Community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ocial networks (and other personal content publish/share models)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iki (and other collaborative content model)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Business model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: web-services-enabled business models, mashup/remix applications,…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b 2.0 today (2006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36240" y="1228680"/>
            <a:ext cx="847404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hort-term Enterprise impact: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Employee productivity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. Via the collaboration facilitated by wikis, blogs and social networks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Expertise location and management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. Through the use of social networks to provide answers to questions and appropriate skill selection.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New visual set of application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: By correlating two or more previously stand-alone sets of data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eyond Web 2.0: Collaboration@work 2020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1840" y="1228680"/>
            <a:ext cx="858996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99"/>
                </a:solidFill>
                <a:latin typeface="Arial"/>
              </a:rPr>
              <a:t>Towards UBIQUITOUS COLLABOR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99"/>
                </a:solidFill>
                <a:latin typeface="Arial"/>
              </a:rPr>
              <a:t>Looking to the future – what is beyond Web 2.0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rom private-fun sphere to work environments. More business-oriented, more like group to organisation granularity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ove from the individual level in Web 2.0 to company and group level (from mySpace to mySME) – applying all these ideas from individuals to companies , from person to group granularity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achines will be a part of the extended network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Collaboration on a massive scale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To move from information space to knowledge space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To include context into data, Web 2.0 is focus on content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To consider mobility aspects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To tackle integration issues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To consider security, reliability and control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700080" y="541440"/>
            <a:ext cx="14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Agenda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5360" y="1208160"/>
            <a:ext cx="89186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llaboration@work launched activities in 2006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ndings of the Collaboration@work Experts Group: research lines 2020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sion 2020: Ubiquitous Collabora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eb 2.0 – Lessons learned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Research lines 2020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CT in FP7 (EU RTD Framework programme 2007-2013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search on Collaboration in FP7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ur research ideas 2020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417320"/>
            <a:ext cx="914400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Final goal: UBIQUITOUS COLLABOR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mediate steps: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Mobile Collaboration (RTD projects started in 2004, end by 2007)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Integrated collaboration (RTD projects started in 2006, end by 2009)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Integrated Group-oriented Collaboration (no start date)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800000"/>
                </a:solidFill>
                <a:uFillTx/>
                <a:latin typeface="Arial"/>
              </a:rPr>
              <a:t>Contextual Collaboration (no start date)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Collective intelligence (no start date)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12000" y="4906800"/>
            <a:ext cx="2232000" cy="1465560"/>
          </a:xfrm>
          <a:prstGeom prst="wedgeEllipseCallout">
            <a:avLst>
              <a:gd name="adj1" fmla="val -63444"/>
              <a:gd name="adj2" fmla="val -24648"/>
            </a:avLst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spcAft>
                <a:spcPts val="612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Semantic Web and social web can jointly contribute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spcAft>
                <a:spcPts val="612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earch lines 2020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6240" y="1417320"/>
            <a:ext cx="729756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biquitous collabo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llective intelligenc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extual collabo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egrated group-oriented collabo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bile collabo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693200" y="1523880"/>
            <a:ext cx="14040" cy="377352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8160" y="1531800"/>
            <a:ext cx="14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onger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erm (2020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62320" y="4316400"/>
            <a:ext cx="14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erm (2010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08200" y="6070680"/>
            <a:ext cx="6421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ecurity and control (permanent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biquitous Collabor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36600" y="1230120"/>
            <a:ext cx="838656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o make collaboration services as an inherent part of all work activities. To make possible to collaborate </a:t>
            </a:r>
            <a:r>
              <a:rPr b="1" i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with anyon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at any place, at any time. It will benefit from progress in: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mobile collaboration, 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integrated group-oriented collaboration and 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contextual collaboration.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mpact: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Seamless collaboration for intracompany and intercompany collaboration (collaborative commerce.)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Early adopters: consulting firms, media, pharmaceutical companies, manufacturing and financial services.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search areas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Enlarge web 2.0 capabilities to include massive collaboration,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Pervasive collaboration: ePaper, augmented and mixed reality,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Group virtual presence.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Cooperativity: “usability for a group” vs usability for an user.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larific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6600" y="1417680"/>
            <a:ext cx="85471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400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is presentation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is </a:t>
            </a: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about </a:t>
            </a:r>
            <a:r>
              <a:rPr b="1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human/centric collaboration</a:t>
            </a: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 vs collaborative business processes (transactional)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400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It is about how </a:t>
            </a:r>
            <a:r>
              <a:rPr b="1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to empower and motivate people</a:t>
            </a: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 to work together, </a:t>
            </a:r>
            <a:r>
              <a:rPr b="1" i="1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with anyone</a:t>
            </a: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, at any time, at any place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400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It is about how semantic web, and other technologies, can help to achieve the dream of “</a:t>
            </a:r>
            <a:r>
              <a:rPr b="1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Ubiquitous Collaboration”</a:t>
            </a: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llective Intelligenc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6600" y="1417320"/>
            <a:ext cx="838656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225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enerating intellectual content (decisions, documents, ideas) from individuals coming together in ad-hoc way. No central authority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225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mpact: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oster creativity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more efficient way of producing creative content and certain services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225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nputs from web 2.0: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Wiki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ocial network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egrated GROUP-ORIENTED collabor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5120" y="1041480"/>
            <a:ext cx="867888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876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mprehensive and integrated solutions (include collaborative infrastructures and architectures) to support collaboration between internal and external users considering GROUP ASPECTS.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876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urrent research projects on Integrated Collaboration focus on individuals working together but do not consider the unique charecetristics and idiosincracy of a group. For example future integrated Group/oriented collaboration should focus on COOPERATIVITY (usability by a group) vs USABILITY by an user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876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pac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Reduce of IT management costs,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Reduce interaction cost across organizational boundaries.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876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ork to be done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Leverage on the flexibility, decentralization and openness brought  by web 2.0,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bile collabor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50640" y="1169640"/>
            <a:ext cx="8530920" cy="52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cludes mobile devices, it is called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c-po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(mobile device with collaboration features inside). Services comprised are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Basic services: Mobile e-mail, IM, VoIP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Web/video/audio conferencing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eam workspaces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upporting Social network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mpact: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Integration of mobile workers within the enterprise collaboration framework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No new devices, but “collaboration enabling” devices (c-pod brand)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ork to be done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o support conferencing, presence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o go beyond e-mail, IM and calendar towards wikis and social networks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curity and contro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36600" y="1041480"/>
            <a:ext cx="853128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llaboration systems have to increase security features and to allow the implementation of appropriate controls when implementing them within organizations 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mpac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t will allow the implementation of collaborative systems within organisations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ork to be done :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Risk management,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ecurity issues (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access control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to knowledge),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usiness continuity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textual collabor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6600" y="1041480"/>
            <a:ext cx="853128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876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ke all the collaboration services aware of the group context, including physical, cultural and social context. It will make explicit the activities that are relevant at a certain time, the context of those activities and what is needed to work on them.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876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pac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o increase the use of collaboration services by the user.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oday’s work is characterized by multi-tasking and many interruptions. This requires systems that enable rapid context switching and that provide immediate awareness on the state of the affairs in a collaborative process.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876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ork to be done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Role of semantic web here?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How to model context?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o be able to transfer what is really necessary for a particular interaction.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Presentation of information with multiple methods and representations and to create audience specific views based on the different roles and IPR interests involved in a collaboration process.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700080" y="541440"/>
            <a:ext cx="14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Agenda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87520" y="1533600"/>
            <a:ext cx="7656480" cy="43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biquitous Collaboration. Reflections from the EC/ESA Experts group.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CT in FP7 (EU RTD Framework programme 2007-2013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505152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1640" y="5095800"/>
            <a:ext cx="930600" cy="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188720" y="990720"/>
            <a:ext cx="7775640" cy="552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spcAft>
                <a:spcPts val="612"/>
              </a:spcAft>
              <a:buNone/>
              <a:tabLst>
                <a:tab algn="l" pos="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801"/>
                </a:solidFill>
                <a:latin typeface="Arial"/>
              </a:rPr>
              <a:t>1952: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ECSC treaty; first projects started March 1955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612"/>
              </a:spcAft>
              <a:buNone/>
              <a:tabLst>
                <a:tab algn="l" pos="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801"/>
                </a:solidFill>
                <a:latin typeface="Arial"/>
              </a:rPr>
              <a:t>1957: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Euratom treaty; Joint Research Centre set up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612"/>
              </a:spcAft>
              <a:buNone/>
              <a:tabLst>
                <a:tab algn="l" pos="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801"/>
                </a:solidFill>
                <a:latin typeface="Arial"/>
              </a:rPr>
              <a:t>1983: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ESPRIT programme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612"/>
              </a:spcAft>
              <a:buNone/>
              <a:tabLst>
                <a:tab algn="l" pos="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801"/>
                </a:solidFill>
                <a:latin typeface="Arial"/>
              </a:rPr>
              <a:t>1984: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First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 Framework Programme (1984-1987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612"/>
              </a:spcAft>
              <a:buNone/>
              <a:tabLst>
                <a:tab algn="l" pos="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801"/>
                </a:solidFill>
                <a:latin typeface="Arial"/>
              </a:rPr>
              <a:t>1987: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‘Single European</a:t>
            </a: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Act’ 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  <a:ea typeface="Arial"/>
              </a:rPr>
              <a:t>– 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science becomes a Community </a:t>
            </a:r>
            <a:br>
              <a:rPr sz="1400"/>
            </a:b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responsibility; </a:t>
            </a:r>
            <a:br>
              <a:rPr sz="1400"/>
            </a:b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econd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 Framework Programme (1987-1991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612"/>
              </a:spcAft>
              <a:buNone/>
              <a:tabLst>
                <a:tab algn="l" pos="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801"/>
                </a:solidFill>
                <a:latin typeface="Arial"/>
              </a:rPr>
              <a:t>1990: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Third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 Framework Programme (1990-1994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612"/>
              </a:spcAft>
              <a:buNone/>
              <a:tabLst>
                <a:tab algn="l" pos="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801"/>
                </a:solidFill>
                <a:latin typeface="Arial"/>
              </a:rPr>
              <a:t>1993: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Treaty on European Union;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612"/>
              </a:spcAft>
              <a:buNone/>
              <a:tabLst>
                <a:tab algn="l" pos="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role of RTD in the enlarged EU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612"/>
              </a:spcAft>
              <a:buNone/>
              <a:tabLst>
                <a:tab algn="l" pos="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801"/>
                </a:solidFill>
                <a:latin typeface="Arial"/>
              </a:rPr>
              <a:t>1994: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Fourth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 Framework Programme (1994-1998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612"/>
              </a:spcAft>
              <a:buNone/>
              <a:tabLst>
                <a:tab algn="l" pos="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801"/>
                </a:solidFill>
                <a:latin typeface="Arial"/>
              </a:rPr>
              <a:t>1998: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Fifth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 Framework Programme (1998-2002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612"/>
              </a:spcAft>
              <a:buNone/>
              <a:tabLst>
                <a:tab algn="l" pos="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801"/>
                </a:solidFill>
                <a:latin typeface="Arial"/>
              </a:rPr>
              <a:t>2000: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European Research Area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612"/>
              </a:spcAft>
              <a:buNone/>
              <a:tabLst>
                <a:tab algn="l" pos="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801"/>
                </a:solidFill>
                <a:latin typeface="Arial"/>
              </a:rPr>
              <a:t>2002:</a:t>
            </a:r>
            <a:r>
              <a:rPr b="1" lang="en-GB" sz="1400" spc="-1" strike="noStrike">
                <a:solidFill>
                  <a:srgbClr val="ff6801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6801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ixth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 Framework Programme (2002-2006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612"/>
              </a:spcAft>
              <a:buNone/>
              <a:tabLst>
                <a:tab algn="l" pos="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801"/>
                </a:solidFill>
                <a:latin typeface="Arial"/>
              </a:rPr>
              <a:t>2005: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Proposal for the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eventh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 Framework Programme (2007-2013; 2007-2011 for Euratom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990800" y="-360"/>
            <a:ext cx="639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-1296360" y="3094560"/>
            <a:ext cx="4192560" cy="381240"/>
          </a:xfrm>
          <a:custGeom>
            <a:avLst/>
            <a:gdLst>
              <a:gd name="textAreaLeft" fmla="*/ 654840 w 4192560"/>
              <a:gd name="textAreaRight" fmla="*/ 3668760 w 419256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a9cd"/>
              </a:gs>
              <a:gs pos="100000">
                <a:srgbClr val="0062a4"/>
              </a:gs>
            </a:gsLst>
            <a:lin ang="5400000"/>
          </a:gradFill>
          <a:ln w="9360">
            <a:solidFill>
              <a:srgbClr val="006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17720" y="0"/>
            <a:ext cx="7226280" cy="8967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U research: the story so far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P7 budget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(€ 54 582 million, current prices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36600" y="1417680"/>
          <a:ext cx="8386560" cy="45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1417680"/>
                    <a:ext cx="838656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74680" y="1268280"/>
            <a:ext cx="85978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1. Healt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8200" y="1747800"/>
            <a:ext cx="86248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od, Agri, Biotec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8200" y="2246400"/>
            <a:ext cx="8620200" cy="3682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formation and Communication Technologie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8200" y="2795760"/>
            <a:ext cx="8610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4.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ano, Materials, Produc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2080" y="3274920"/>
            <a:ext cx="86007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5. Energy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2080" y="3773520"/>
            <a:ext cx="86040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6.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nvironmen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4160" y="4280040"/>
            <a:ext cx="86119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7.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ransport (including Aeronautics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7680" y="4759200"/>
            <a:ext cx="85723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8.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ocio-ec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7680" y="5257800"/>
            <a:ext cx="85644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9. Security and spac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2800" y="71280"/>
            <a:ext cx="6851880" cy="91440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operation” – Collaborative Research – Them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62120" y="1676520"/>
            <a:ext cx="7772400" cy="914400"/>
          </a:xfrm>
          <a:prstGeom prst="rect">
            <a:avLst/>
          </a:prstGeom>
          <a:solidFill>
            <a:srgbClr val="d9d9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30520" y="246240"/>
            <a:ext cx="6610320" cy="65880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P7 2007-2013 ‘Cooperation’ budge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18440" y="5943600"/>
            <a:ext cx="196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ore on the budget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76520"/>
            <a:ext cx="7772400" cy="3733560"/>
          </a:xfrm>
          <a:prstGeom prst="rect">
            <a:avLst/>
          </a:prstGeom>
          <a:noFill/>
          <a:ln w="9360">
            <a:solidFill>
              <a:srgbClr val="006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5943600"/>
            <a:ext cx="381240" cy="352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099960" y="1806480"/>
            <a:ext cx="764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50240" y="2130480"/>
            <a:ext cx="2564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I. Cooperation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30200" y="2130480"/>
            <a:ext cx="764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71960" y="1798560"/>
            <a:ext cx="1492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Budget </a:t>
            </a:r>
            <a:endParaRPr b="0" lang="en-US" sz="1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39080" y="1814400"/>
            <a:ext cx="746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658920" y="2057400"/>
            <a:ext cx="1631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(€ million, 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69560" y="2300400"/>
            <a:ext cx="202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current prices)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65960" y="2300400"/>
            <a:ext cx="746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5640" y="2674800"/>
            <a:ext cx="163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Healt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81840" y="2674800"/>
            <a:ext cx="75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2280" y="2674800"/>
            <a:ext cx="81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38360" y="2674800"/>
            <a:ext cx="75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09280" y="2674800"/>
            <a:ext cx="106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84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19320" y="2674800"/>
            <a:ext cx="75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680" y="2944800"/>
            <a:ext cx="491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Food, agriculture and biotechnology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69640" y="2944800"/>
            <a:ext cx="75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902280" y="2944800"/>
            <a:ext cx="81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38360" y="2944800"/>
            <a:ext cx="75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09280" y="2944800"/>
            <a:ext cx="106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35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19320" y="2944800"/>
            <a:ext cx="75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2400" y="3216240"/>
            <a:ext cx="5900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Information and communication technologie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9000" y="3216240"/>
            <a:ext cx="75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11640" y="3216240"/>
            <a:ext cx="81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38360" y="3216240"/>
            <a:ext cx="75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09280" y="3216240"/>
            <a:ext cx="106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19320" y="3216240"/>
            <a:ext cx="75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4560" y="3484440"/>
            <a:ext cx="458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Nanotechnologies, materials and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1320" y="3755880"/>
            <a:ext cx="188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28240" y="3755880"/>
            <a:ext cx="75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02280" y="3484440"/>
            <a:ext cx="81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38360" y="3484440"/>
            <a:ext cx="75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09280" y="3484440"/>
            <a:ext cx="106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67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19320" y="3484440"/>
            <a:ext cx="75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5640" y="4025880"/>
            <a:ext cx="1715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Energy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08840" y="4025880"/>
            <a:ext cx="75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02280" y="4025880"/>
            <a:ext cx="81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38360" y="4025880"/>
            <a:ext cx="75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09280" y="4025880"/>
            <a:ext cx="106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19320" y="4025880"/>
            <a:ext cx="75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5280" y="4297320"/>
            <a:ext cx="233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Environmen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59720" y="4297320"/>
            <a:ext cx="75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902280" y="4297320"/>
            <a:ext cx="81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38360" y="4297320"/>
            <a:ext cx="75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09280" y="4297320"/>
            <a:ext cx="106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86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19320" y="4297320"/>
            <a:ext cx="75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5640" y="4565520"/>
            <a:ext cx="200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Transpor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28160" y="4565520"/>
            <a:ext cx="75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02280" y="4565520"/>
            <a:ext cx="81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38360" y="4565520"/>
            <a:ext cx="75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08920" y="4565520"/>
            <a:ext cx="93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83240" y="4565520"/>
            <a:ext cx="81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19320" y="4565520"/>
            <a:ext cx="75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4920" y="4835520"/>
            <a:ext cx="156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 Socio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39280" y="4835520"/>
            <a:ext cx="76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24600" y="4835520"/>
            <a:ext cx="283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nomic research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0400" y="4835520"/>
            <a:ext cx="75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109280" y="4835520"/>
            <a:ext cx="106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7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19320" y="4835520"/>
            <a:ext cx="75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6000" y="5106960"/>
            <a:ext cx="302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 Security and spac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07720" y="5106960"/>
            <a:ext cx="75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902280" y="5106960"/>
            <a:ext cx="81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38360" y="5106960"/>
            <a:ext cx="75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09280" y="5106960"/>
            <a:ext cx="106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8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6000" y="5408640"/>
            <a:ext cx="123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31120" y="5408640"/>
            <a:ext cx="75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74480" y="5408640"/>
            <a:ext cx="138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2 292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9320" y="5770440"/>
            <a:ext cx="2195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* Not including non</a:t>
            </a:r>
            <a:endParaRPr b="0" lang="en-US" sz="13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41560" y="5770440"/>
            <a:ext cx="741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3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26520" y="5770440"/>
            <a:ext cx="4591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uclear activities of the Joint Research Centre: €1</a:t>
            </a:r>
            <a:endParaRPr b="0" lang="en-US" sz="13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78440" y="5770440"/>
            <a:ext cx="73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68160" y="5770440"/>
            <a:ext cx="1537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1 million</a:t>
            </a:r>
            <a:endParaRPr b="0" lang="en-US" sz="13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781680" y="5770440"/>
            <a:ext cx="73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94480" y="5408640"/>
            <a:ext cx="775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A dream for 2020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6600" y="1285920"/>
            <a:ext cx="838656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1137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99"/>
                </a:solidFill>
                <a:latin typeface="Arial"/>
              </a:rPr>
              <a:t>A dream: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Semantic web takes a people-centric approach (web 2.0 style).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It facilitates contextual collaboration among people.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It empowers and motivates people to work together.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Ubiquitous collaboration among people turns into a reality. (vs current collaborative business processes approach)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295280" y="4245120"/>
            <a:ext cx="7315200" cy="555480"/>
          </a:xfrm>
          <a:prstGeom prst="rect">
            <a:avLst/>
          </a:prstGeom>
          <a:solidFill>
            <a:srgbClr val="d9d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95280" y="3660840"/>
            <a:ext cx="7315200" cy="358560"/>
          </a:xfrm>
          <a:prstGeom prst="rect">
            <a:avLst/>
          </a:prstGeom>
          <a:solidFill>
            <a:srgbClr val="ff68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P7 Timetab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23520" y="1846080"/>
            <a:ext cx="579132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April 2005</a:t>
            </a: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September 2005</a:t>
            </a: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June 2006  </a:t>
            </a: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September 2006 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November 2006</a:t>
            </a: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December 2006?</a:t>
            </a: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Dec. 2006/Jan. 2007</a:t>
            </a: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February 2007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343400" y="1828800"/>
            <a:ext cx="4343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Commission’s proposal</a:t>
            </a:r>
            <a:endParaRPr b="0" lang="en-US" sz="19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Specific programmes’ proposal</a:t>
            </a:r>
            <a:endParaRPr b="0" lang="en-US" sz="19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First reading at EP</a:t>
            </a:r>
            <a:endParaRPr b="0" lang="en-US" sz="19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Common position at Council</a:t>
            </a:r>
            <a:endParaRPr b="0" lang="en-US" sz="19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Second reading and approval at EP</a:t>
            </a:r>
            <a:endParaRPr b="0" lang="en-US" sz="19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Adoption</a:t>
            </a:r>
            <a:endParaRPr b="0" lang="en-US" sz="19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First calls for proposals</a:t>
            </a:r>
            <a:endParaRPr b="0" lang="en-US" sz="19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Launch conference</a:t>
            </a:r>
            <a:endParaRPr b="0" lang="en-US" sz="19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95280" y="1720800"/>
            <a:ext cx="7315200" cy="3079800"/>
          </a:xfrm>
          <a:prstGeom prst="rect">
            <a:avLst/>
          </a:prstGeom>
          <a:noFill/>
          <a:ln w="9360">
            <a:solidFill>
              <a:srgbClr val="006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2057400"/>
            <a:ext cx="7467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95280" y="4246560"/>
            <a:ext cx="7315200" cy="0"/>
          </a:xfrm>
          <a:prstGeom prst="line">
            <a:avLst/>
          </a:prstGeom>
          <a:ln w="9360">
            <a:solidFill>
              <a:srgbClr val="006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14907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esearch contribution to the 3% objective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– budget significantly increased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508520" y="2252520"/>
            <a:ext cx="152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€ </a:t>
            </a: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million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666720" y="2440080"/>
          <a:ext cx="7753320" cy="252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2440080"/>
                    <a:ext cx="7753320" cy="25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277920" y="1184040"/>
            <a:ext cx="88660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spcAft>
                <a:spcPts val="1225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tinuity of instruments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Collaborative projects;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Networks of Excellence;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Coordination/support actions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99"/>
                </a:solidFill>
                <a:latin typeface="Arial"/>
              </a:rPr>
              <a:t>+ New schem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Joint Technology Initiatives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Coordination (ERA-NET; ERA-NET+; Article 169)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1843200" y="71280"/>
            <a:ext cx="7300800" cy="91440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mplementation of  ICT in the “Cooperation” par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700080" y="541440"/>
            <a:ext cx="14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Agenda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5360" y="1208160"/>
            <a:ext cx="89186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llaboration@work launched activities in 2006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ndings of the Collaboration@work Experts Group: research lines 2020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sion 2020: Ubiquitous Collabora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eb 2.0 – Lessons learned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search lines 2020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CT in FP7 (EU RTD Framework programme 2007-2013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Research on Collaboration in FP7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WE Research approach. Proposal from our Experts Grou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36600" y="1417320"/>
            <a:ext cx="838656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orking on a set of priorities of the medium-term (FP7 calls 1 and 2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ocusing and consolidating the RTD challenges in 3 building blocks: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ollaboration infrastructures for ubiquitous collaboration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Reference architectures for integrated collaboration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New methods and concepts (new theory of Collaboration)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49520" y="0"/>
            <a:ext cx="7494480" cy="83808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om RTD challenges into building blocks. Experts group proposal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25560" y="1001880"/>
            <a:ext cx="428796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P7 Specific programme legal Tex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36600" y="1417320"/>
            <a:ext cx="838656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egal text approved by the Council: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宋体"/>
              </a:rPr>
              <a:t>ICT supporting businesses and industry: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249"/>
              </a:spcAft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  <a:ea typeface="宋体"/>
              </a:rPr>
              <a:t>new forms of dynamic networked co-operative </a:t>
            </a:r>
            <a:r>
              <a:rPr b="0" i="1" lang="en-US" sz="2000" spc="-1" strike="noStrike">
                <a:solidFill>
                  <a:srgbClr val="010000"/>
                </a:solidFill>
                <a:latin typeface="Arial"/>
                <a:ea typeface="宋体"/>
              </a:rPr>
              <a:t>business</a:t>
            </a:r>
            <a:r>
              <a:rPr b="0" lang="en-US" sz="2000" spc="-1" strike="noStrike">
                <a:solidFill>
                  <a:srgbClr val="010000"/>
                </a:solidFill>
                <a:latin typeface="Arial"/>
                <a:ea typeface="宋体"/>
              </a:rPr>
              <a:t> processes, digital eco-systems including for empowering small and medium-sized organisations and communities;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  <a:ea typeface="宋体"/>
              </a:rPr>
              <a:t>optimised work organisation and collaborative work environments such as knowledge sharing and interactive services</a:t>
            </a:r>
            <a:r>
              <a:rPr b="0" lang="en-US" sz="2000" spc="-1" strike="noStrike">
                <a:solidFill>
                  <a:srgbClr val="010000"/>
                </a:solidFill>
                <a:latin typeface="Arial"/>
                <a:ea typeface="宋体"/>
              </a:rPr>
              <a:t> (e.g. for tourism)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etails related to timing and budget of call for proposals not decided yet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P7 / FP6 differences. New funding approach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36600" y="1417320"/>
            <a:ext cx="838656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400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crease of budget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400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ocus on: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Target outcome, e.g. Integrated solutions for contextual collaboration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Expected Impact, e.g. on group creativity &amp; collective intelligence for industry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400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o mention of specific Enabling technologies, e.g. Semantic Web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700080" y="541440"/>
            <a:ext cx="14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Agenda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5360" y="1208160"/>
            <a:ext cx="891864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spcAft>
                <a:spcPts val="10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llaboration@work launched activities in 2006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10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ndings of the Collaboration@work Experts Group: research lines 2020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spcAft>
                <a:spcPts val="10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ision 2020: Ubiquitous Collabora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spcAft>
                <a:spcPts val="10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eb 2.0 – Lessons learned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spcAft>
                <a:spcPts val="10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search lines 2020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10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CT in FP7 (EU RTD Framework Programme 2007-2013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10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search on Collaboration in FP7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10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Conclus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18880" y="1112400"/>
            <a:ext cx="892476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everage on web 2.0 will deliver benefits to organisations provided that it is adapted to work environments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mantic web should also take the web 2.0 ‘people/centric’ approach towards ‘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uman-centr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collaboration’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020 Collaborative systems: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Collaboration@work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Evolution of web 2.0 and convergence with current collaborative systems and Semantic Web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onsider private/fun aspects as well as work components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over the whole granularity: from individual level to group level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nal goal: Ubiquitous Collaboration (</a:t>
            </a:r>
            <a:r>
              <a:rPr b="1" lang="en-US" sz="2000" spc="-1" strike="noStrike" u="sng">
                <a:solidFill>
                  <a:srgbClr val="800000"/>
                </a:solidFill>
                <a:uFillTx/>
                <a:latin typeface="Arial"/>
              </a:rPr>
              <a:t>contextual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, integrated, Group-oriented, mobile, semantic-rich collaboration)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678720" y="5472000"/>
            <a:ext cx="2000160" cy="1117800"/>
          </a:xfrm>
          <a:prstGeom prst="wedgeEllipseCallout">
            <a:avLst>
              <a:gd name="adj1" fmla="val -65000"/>
              <a:gd name="adj2" fmla="val -47870"/>
            </a:avLst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spcAft>
                <a:spcPts val="612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Semantic Web and social web can jointly contribute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spcAft>
                <a:spcPts val="612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700080" y="541440"/>
            <a:ext cx="14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Agenda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87520" y="1533600"/>
            <a:ext cx="7656480" cy="43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biquitous Collaboration. Reflections from the EC/ESA Experts group.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CT in FP7 (EU RTD Framework Programme 2007-2013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05152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3400" y="1932120"/>
            <a:ext cx="930600" cy="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983160" y="2170080"/>
            <a:ext cx="736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990000"/>
                </a:solidFill>
                <a:latin typeface="Arial"/>
                <a:ea typeface="Arial"/>
              </a:rPr>
              <a:t>Thank you for your attention !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23" name="" descr="Isidro Laso-Ballester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83160" y="2952720"/>
            <a:ext cx="1269720" cy="15876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2485440" y="5122800"/>
            <a:ext cx="41814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sidro Laso-Ballesteros</a:t>
            </a:r>
            <a:br>
              <a:rPr sz="1600"/>
            </a:b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isidro.laso@cec.eu.int</a:t>
            </a:r>
            <a:br>
              <a:rPr sz="1600"/>
            </a:b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New Working Environments Unit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br>
              <a:rPr sz="1600"/>
            </a:b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DG information Society and media</a:t>
            </a:r>
            <a:br>
              <a:rPr sz="1600"/>
            </a:b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European Commission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llaboration@work 200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36600" y="1174320"/>
            <a:ext cx="83865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Focus on: “Integrated collaboration”: 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Reference architecture for collaboration,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ntegrated solutions for the Integration of synchronous &amp; asynchronous cross domain communication/collaboration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rand name: CWE (Collaborative Work Environment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udget&gt; 70€ Mio    Funding&gt; 46 € Mi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pected Time to market: 5 years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9280" y="3284640"/>
            <a:ext cx="7431120" cy="2736720"/>
          </a:xfrm>
          <a:prstGeom prst="ellipse">
            <a:avLst/>
          </a:prstGeom>
          <a:noFill/>
          <a:ln w="381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174160" y="19922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IP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96720" y="1122120"/>
            <a:ext cx="7704360" cy="2162520"/>
            <a:chOff x="396720" y="1122120"/>
            <a:chExt cx="7704360" cy="2162520"/>
          </a:xfrm>
        </p:grpSpPr>
        <p:sp>
          <p:nvSpPr>
            <p:cNvPr id="106" name=""/>
            <p:cNvSpPr/>
            <p:nvPr/>
          </p:nvSpPr>
          <p:spPr>
            <a:xfrm rot="16200000">
              <a:off x="396000" y="1124640"/>
              <a:ext cx="2160720" cy="21592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6200000">
              <a:off x="2269080" y="1124640"/>
              <a:ext cx="2159280" cy="21607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6200000">
              <a:off x="4141800" y="1122120"/>
              <a:ext cx="2158920" cy="2158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5942160" y="1122120"/>
              <a:ext cx="2158920" cy="2158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5800" y="1496880"/>
              <a:ext cx="1552680" cy="13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CoSpaces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Aerospace, 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Automotive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nstruction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18880" y="1514520"/>
              <a:ext cx="83916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C@R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Rural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18200" y="1555920"/>
              <a:ext cx="1780920" cy="13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EcoSpace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Publishing, 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eProfessionals, 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Engineering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78680" y="1555920"/>
              <a:ext cx="17046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Laboranova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igh-tech,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Manufacturing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724320" y="5013360"/>
            <a:ext cx="2647080" cy="642600"/>
          </a:xfrm>
          <a:prstGeom prst="rect">
            <a:avLst/>
          </a:prstGeom>
          <a:noFill/>
          <a:ln cap="rnd" w="936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ugmented Group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esence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CoVES, DiFac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38120" y="4365720"/>
            <a:ext cx="1889280" cy="916920"/>
          </a:xfrm>
          <a:prstGeom prst="rect">
            <a:avLst/>
          </a:prstGeom>
          <a:noFill/>
          <a:ln cap="rnd" w="936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ersistence &amp;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ynchronisation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PoPeye, CoVE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03640" y="4722840"/>
            <a:ext cx="2016360" cy="642600"/>
          </a:xfrm>
          <a:prstGeom prst="rect">
            <a:avLst/>
          </a:prstGeom>
          <a:noFill/>
          <a:ln cap="rnd" w="936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Group decision-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king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DiFac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49640" y="5370480"/>
            <a:ext cx="2260800" cy="642600"/>
          </a:xfrm>
          <a:prstGeom prst="rect">
            <a:avLst/>
          </a:prstGeom>
          <a:noFill/>
          <a:ln cap="rnd" w="936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totyping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&amp; Simulation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DiFac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56000" y="4076640"/>
            <a:ext cx="2158920" cy="642600"/>
          </a:xfrm>
          <a:prstGeom prst="rect">
            <a:avLst/>
          </a:prstGeom>
          <a:noFill/>
          <a:ln cap="rnd" w="936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ontext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reasoning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InContex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880" y="4362480"/>
            <a:ext cx="2536920" cy="642600"/>
          </a:xfrm>
          <a:prstGeom prst="rect">
            <a:avLst/>
          </a:prstGeom>
          <a:noFill/>
          <a:ln cap="rnd" w="936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d-Hoc P2P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InContext,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WorkPad, PoPey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8320" y="3284640"/>
            <a:ext cx="2393640" cy="368280"/>
          </a:xfrm>
          <a:prstGeom prst="rect">
            <a:avLst/>
          </a:prstGeom>
          <a:noFill/>
          <a:ln cap="rnd" w="936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Robotics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Robot@CW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43240" y="41529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STREP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25800" y="4869000"/>
            <a:ext cx="15645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32% SM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42% Industr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25560" y="6078600"/>
            <a:ext cx="7740720" cy="368280"/>
          </a:xfrm>
          <a:prstGeom prst="rect">
            <a:avLst/>
          </a:prstGeom>
          <a:noFill/>
          <a:ln cap="rnd" w="936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Times New Roman"/>
              </a:rPr>
              <a:t>CAs/SSA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Experience Research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CoreLabs, OpenFutures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) and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ERA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Clock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25640" y="3645000"/>
            <a:ext cx="1956240" cy="642600"/>
          </a:xfrm>
          <a:prstGeom prst="rect">
            <a:avLst/>
          </a:prstGeom>
          <a:noFill/>
          <a:ln cap="rnd" w="936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obility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: CoVES,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oPeye, WorkPad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8320" y="3429000"/>
            <a:ext cx="2088720" cy="916920"/>
          </a:xfrm>
          <a:prstGeom prst="rect">
            <a:avLst/>
          </a:prstGeom>
          <a:noFill/>
          <a:ln cap="rnd" w="936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nteraction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atterns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: InContext,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Robot@CW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9255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FP6 call 5 Retained proposals (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700080" y="541440"/>
            <a:ext cx="14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Agenda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5360" y="1208160"/>
            <a:ext cx="89186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llaboration@work launched activities in 2006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Findings of the Collaboration@work Experts Group: research lines 2020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Vision 2020: Ubiquitous Collabora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eb 2.0 – Lessons learned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search lines 2020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CT in FP7 (EU RTD Framework programme 2007-2013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search on Collaboration in FP7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sion Collaboration@work 2020: Ubiquitous Collabor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6600" y="2260080"/>
            <a:ext cx="8386560" cy="39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chnological Vision 2020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Clr>
                <a:srgbClr val="000099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In 2020,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llaborative Working Environments will offer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ubiquitous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hardware and software 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"/>
              </a:rPr>
              <a:t>systems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composed of resources providing a new blend of seamlessly integrated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ctivity-oriented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en-GB" sz="2400" spc="-1" strike="noStrike" u="sng">
                <a:solidFill>
                  <a:srgbClr val="000099"/>
                </a:solidFill>
                <a:uFillTx/>
                <a:latin typeface="Arial"/>
              </a:rPr>
              <a:t>context-aware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flexible software services providing pro-active support for dynamic patterns of collaborative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nteractions with anyone, at any place, at any time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between humans, systems, machines and devices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9080" y="1189080"/>
            <a:ext cx="8623080" cy="1262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 u="sng">
                <a:solidFill>
                  <a:srgbClr val="000099"/>
                </a:solidFill>
                <a:uFillTx/>
                <a:latin typeface="Arial"/>
              </a:rPr>
              <a:t>Vision:</a:t>
            </a:r>
            <a:r>
              <a:rPr b="0" lang="en-IE" sz="2600" spc="-1" strike="noStrike">
                <a:solidFill>
                  <a:srgbClr val="000099"/>
                </a:solidFill>
                <a:latin typeface="Arial"/>
              </a:rPr>
              <a:t> Collaboration systems offering technologies and 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99"/>
                </a:solidFill>
                <a:latin typeface="Arial"/>
              </a:rPr>
              <a:t>services to </a:t>
            </a:r>
            <a:r>
              <a:rPr b="1" lang="en-IE" sz="2600" spc="-1" strike="noStrike">
                <a:solidFill>
                  <a:srgbClr val="000099"/>
                </a:solidFill>
                <a:latin typeface="Arial"/>
              </a:rPr>
              <a:t>empower and motivate</a:t>
            </a:r>
            <a:r>
              <a:rPr b="0" lang="en-IE" sz="2600" spc="-1" strike="noStrike">
                <a:solidFill>
                  <a:srgbClr val="000099"/>
                </a:solidFill>
                <a:latin typeface="Arial"/>
              </a:rPr>
              <a:t> people to work together 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99"/>
                </a:solidFill>
                <a:latin typeface="Arial"/>
              </a:rPr>
              <a:t>with anyone, at any place, at any time.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49160" y="231480"/>
            <a:ext cx="7226280" cy="8967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ision of organisations 2020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22200" y="1090440"/>
            <a:ext cx="8115120" cy="5767200"/>
            <a:chOff x="322200" y="1090440"/>
            <a:chExt cx="8115120" cy="5767200"/>
          </a:xfrm>
        </p:grpSpPr>
        <p:sp>
          <p:nvSpPr>
            <p:cNvPr id="134" name=""/>
            <p:cNvSpPr/>
            <p:nvPr/>
          </p:nvSpPr>
          <p:spPr>
            <a:xfrm>
              <a:off x="2613600" y="2236680"/>
              <a:ext cx="3141000" cy="3497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74960" y="3141000"/>
              <a:ext cx="1962360" cy="21715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99"/>
                  </a:solidFill>
                  <a:uFillTx/>
                  <a:latin typeface="Arial"/>
                </a:rPr>
                <a:t>Organizations 2020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Innovative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Agile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Culturally aware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Flexible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Empowered workers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Time and space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IPR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41200" y="1112760"/>
              <a:ext cx="1830600" cy="11836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ICT empowering 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people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37400" y="5734080"/>
              <a:ext cx="1571040" cy="112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Business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Models 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Innovation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22200" y="2477160"/>
              <a:ext cx="1506600" cy="6037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Within 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organization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53600" y="3080880"/>
              <a:ext cx="1636200" cy="13258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Between 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organizations 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and 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Governments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57400" y="4468320"/>
              <a:ext cx="1701000" cy="1025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With 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communities 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of interest/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ractice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78400" y="376992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ICT fostering 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Collaboration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2200" y="1632960"/>
              <a:ext cx="1963440" cy="15080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Flexibility 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and 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agility 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is a must in a highly 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competitive and 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global environment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1800" y="3744720"/>
              <a:ext cx="1308600" cy="1025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Inexpensive 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and 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ervasive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IT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3200" y="5433480"/>
              <a:ext cx="1308600" cy="10850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Global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Opportunities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15600" y="1112760"/>
              <a:ext cx="0" cy="5744880"/>
            </a:xfrm>
            <a:prstGeom prst="line">
              <a:avLst/>
            </a:prstGeom>
            <a:ln w="936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9480" y="1136880"/>
              <a:ext cx="101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99"/>
                  </a:solidFill>
                  <a:uFillTx/>
                  <a:latin typeface="Arial"/>
                </a:rPr>
                <a:t>TRENDS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03560" y="1692720"/>
              <a:ext cx="1897560" cy="1629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20120" y="4044960"/>
              <a:ext cx="588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707360" y="4829400"/>
              <a:ext cx="1897560" cy="1508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66000" y="3141000"/>
              <a:ext cx="653760" cy="108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62200" y="4226040"/>
              <a:ext cx="5234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1892160" y="4225680"/>
              <a:ext cx="327240" cy="1629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2285640" y="1813680"/>
              <a:ext cx="653760" cy="2412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5640" y="4226040"/>
              <a:ext cx="261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85640" y="4226040"/>
              <a:ext cx="784800" cy="1990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3280" y="1136880"/>
              <a:ext cx="157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99"/>
                  </a:solidFill>
                  <a:uFillTx/>
                  <a:latin typeface="Arial"/>
                </a:rPr>
                <a:t>CHALLENGES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08720" y="1090440"/>
              <a:ext cx="0" cy="5744880"/>
            </a:xfrm>
            <a:prstGeom prst="line">
              <a:avLst/>
            </a:prstGeom>
            <a:ln w="936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71320" y="1136880"/>
              <a:ext cx="76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99"/>
                  </a:solidFill>
                  <a:uFillTx/>
                  <a:latin typeface="Arial"/>
                </a:rPr>
                <a:t>GOAL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4:59:24Z</dcterms:created>
  <dc:creator>J-FTardif</dc:creator>
  <dc:description/>
  <dc:language>en-US</dc:language>
  <cp:lastModifiedBy>Ilona Zaremba</cp:lastModifiedBy>
  <cp:lastPrinted>2004-02-09T15:05:25Z</cp:lastPrinted>
  <dcterms:modified xsi:type="dcterms:W3CDTF">2006-11-07T16:43:33Z</dcterms:modified>
  <cp:revision>432</cp:revision>
  <dc:subject/>
  <dc:title>No Slide Title</dc:title>
</cp:coreProperties>
</file>