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4F02-5F57-48CB-BDCD-87E4B05FC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838188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1920" y="3938400"/>
            <a:ext cx="838188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1695-4CE1-4BAB-A55B-7A6793937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995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21920" y="3938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38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4328-7E42-4EBF-9F84-3C31EBC90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269856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5840" y="995400"/>
            <a:ext cx="269856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760" y="995400"/>
            <a:ext cx="269856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1920" y="3938400"/>
            <a:ext cx="269856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5840" y="3938400"/>
            <a:ext cx="269856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760" y="3938400"/>
            <a:ext cx="269856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A582-3B51-4927-8ACB-F00CDB519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1920" y="995400"/>
            <a:ext cx="838188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83818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4090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995400"/>
            <a:ext cx="4090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0640" y="120600"/>
            <a:ext cx="851364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995400"/>
            <a:ext cx="4090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21920" y="3938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21920" y="995400"/>
            <a:ext cx="838188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A001-FC0B-4882-951D-D29827A82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4090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995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080" y="3938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995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1920" y="3938400"/>
            <a:ext cx="838188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838188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920" y="3938400"/>
            <a:ext cx="838188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995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1920" y="3938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080" y="3938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269856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5840" y="995400"/>
            <a:ext cx="269856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9760" y="995400"/>
            <a:ext cx="269856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21920" y="3938400"/>
            <a:ext cx="269856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5840" y="3938400"/>
            <a:ext cx="269856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9760" y="3938400"/>
            <a:ext cx="269856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83818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0C5A-A050-4554-9B33-1166C740C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4090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995400"/>
            <a:ext cx="4090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2349-2708-4CDA-A668-0518B8772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6AC2-0A6D-4E84-9D5F-451137111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0640" y="120600"/>
            <a:ext cx="851364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B1CF-3173-43BB-BB48-7055821FD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995400"/>
            <a:ext cx="4090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1920" y="3938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EF10-E038-47CF-8B3F-D369D92E7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4090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995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38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A428-014A-4425-A16C-F8D09C1C7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995400"/>
            <a:ext cx="40903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21920" y="3938400"/>
            <a:ext cx="838188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903E-5930-494A-86F5-7F1E67E87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87" t="0" r="0" b="0"/>
          <a:stretch/>
        </p:blipFill>
        <p:spPr>
          <a:xfrm>
            <a:off x="0" y="0"/>
            <a:ext cx="9140760" cy="871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21920" y="995400"/>
            <a:ext cx="83818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4547-BC11-4ED5-8C45-8A333EF7BC99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2440"/>
            <a:ext cx="9144000" cy="671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20160" y="5970600"/>
            <a:ext cx="1023840" cy="887400"/>
            <a:chOff x="8120160" y="5970600"/>
            <a:chExt cx="1023840" cy="887400"/>
          </a:xfrm>
        </p:grpSpPr>
        <p:sp>
          <p:nvSpPr>
            <p:cNvPr id="7" name=""/>
            <p:cNvSpPr/>
            <p:nvPr/>
          </p:nvSpPr>
          <p:spPr>
            <a:xfrm>
              <a:off x="8120160" y="5970600"/>
              <a:ext cx="1023840" cy="88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236440" y="6062760"/>
              <a:ext cx="813960" cy="715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4240" y="2928240"/>
            <a:ext cx="71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79680" y="582480"/>
            <a:ext cx="2363760" cy="2079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rkg@vulcan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84240" y="3031200"/>
            <a:ext cx="7175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Semantic Web R&amp;D Funding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in the Private Sector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3080" y="4595400"/>
            <a:ext cx="719784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SWC 2006</a:t>
            </a: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r. Mark Greaves</a:t>
            </a: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Vulcan, Inc.</a:t>
            </a: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 Narrow"/>
                <a:hlinkClick r:id="rId1"/>
              </a:rPr>
              <a:t>markg@vulcan.com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 Narrow"/>
              </a:rPr>
              <a:t>  (206) 342-2276</a:t>
            </a: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rst, the obvious..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2280" y="1679040"/>
            <a:ext cx="4114800" cy="4991400"/>
          </a:xfrm>
          <a:prstGeom prst="rect">
            <a:avLst/>
          </a:prstGeom>
          <a:solidFill>
            <a:srgbClr val="ffff97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w sources of national military and economic advanta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chnology superiority / avoidance of technological surpris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telligence analysis and public sector decision suppo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of public institutions (Universities, Research Institutes, flagship industrie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sic science for national-scale issu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izen interaction with Govern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tonal Leadership and Reputation opportunit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overnment-unique information proble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9360" y="1679040"/>
            <a:ext cx="4114800" cy="4991400"/>
          </a:xfrm>
          <a:prstGeom prst="rect">
            <a:avLst/>
          </a:prstGeom>
          <a:solidFill>
            <a:srgbClr val="ffff9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veloping a profitable salable produc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chnology agnostic unless it offers a unique market advanta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avorable ratio of financial reward to market and development ris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dentified, qualified customer base (could be an advertiser base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dible ROI (Return on Investment) argu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&amp;D investments have payoffs in the short ter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&amp;D risk is limit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stainable advantage in a crowded marketpla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s or hard-to-duplicate I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rst mover advantage (eBay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1005480" y="1090440"/>
            <a:ext cx="29469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ublic Sector Goal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mweb R&amp;D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38000" y="1090440"/>
            <a:ext cx="30304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ivate Sector Goal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mweb R&amp;D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7EAD-8C04-4FD4-A98D-7CCE6134B1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ivate Sector R&amp;D Funding Typ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1920" y="995400"/>
            <a:ext cx="8381880" cy="57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is cool from a business point of view is rarely equally cool from a technology point of view, and vice vers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ditional corporate internal R&amp;D to support an existing line of busin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f you are lucky enough to be in one of these (Boeing, IBM, Lucent, British Telecom, etc.) then you know the upsides and the downsid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ften supplemented with public sector R&amp;D contrac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Very occasionally will partner with others for specialized R&amp;D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sulting / prototyping for other organiza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enerally, a business of contacts and long sales cycl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amples: TopQuadrant, ontopris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enture capital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mantic web and web 2.0 companies are more difficult for traditional VC firms, because their capital requirements are often modes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ntent comes from users and web mini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ftware development is fairly minimal because of leveraging open softwar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dvertiser revenue models don’t require large sales staffs (eyeball aggregation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xit strategy is a buyout, rather than IPO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ed a VC tha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an put a small amount of money to work and understands the technology (9 people and ~1M users!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nderstands the technolog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et ready for a wild ride towards a launch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37AE-83B5-459E-B26D-3303662926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0640" y="120600"/>
            <a:ext cx="851364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hat Vulcan is Do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1920" y="995040"/>
            <a:ext cx="838188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ulcan is the private asset management company for Paul Allen, co-founder of Microsof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velopment capabilities include philanthropy, externally contracted R&amp;D, internal technology development, venture capital, and private equ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 occasionally issue targeted solicita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82840" y="3165480"/>
            <a:ext cx="1951200" cy="68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9080" y="3930480"/>
            <a:ext cx="1111320" cy="785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68640" y="4557600"/>
            <a:ext cx="2550960" cy="117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046240" y="2859120"/>
            <a:ext cx="1065240" cy="1233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538360" y="4000680"/>
            <a:ext cx="2055960" cy="320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315120" y="4332240"/>
            <a:ext cx="246708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7029360" y="2860560"/>
            <a:ext cx="1725840" cy="43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7209000" y="3503520"/>
            <a:ext cx="1450800" cy="266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4340160" y="2739960"/>
            <a:ext cx="2160720" cy="507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5418000" y="3151080"/>
            <a:ext cx="1573200" cy="708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760320" y="2849400"/>
            <a:ext cx="1079640" cy="906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5489640" y="3841920"/>
            <a:ext cx="2284200" cy="51084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3886200" y="5793840"/>
            <a:ext cx="920520" cy="638280"/>
            <a:chOff x="3886200" y="5793840"/>
            <a:chExt cx="920520" cy="638280"/>
          </a:xfrm>
        </p:grpSpPr>
        <p:sp>
          <p:nvSpPr>
            <p:cNvPr id="108" name=""/>
            <p:cNvSpPr/>
            <p:nvPr/>
          </p:nvSpPr>
          <p:spPr>
            <a:xfrm flipV="1">
              <a:off x="4268880" y="5804280"/>
              <a:ext cx="537840" cy="627840"/>
            </a:xfrm>
            <a:custGeom>
              <a:avLst/>
              <a:gdLst>
                <a:gd name="textAreaLeft" fmla="*/ 0 w 537840"/>
                <a:gd name="textAreaRight" fmla="*/ 538200 w 537840"/>
                <a:gd name="textAreaTop" fmla="*/ 360 h 627840"/>
                <a:gd name="textAreaBottom" fmla="*/ 628560 h 62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3886200" y="5793480"/>
              <a:ext cx="537840" cy="628200"/>
            </a:xfrm>
            <a:custGeom>
              <a:avLst/>
              <a:gdLst>
                <a:gd name="textAreaLeft" fmla="*/ 360 w 537840"/>
                <a:gd name="textAreaRight" fmla="*/ 538560 w 537840"/>
                <a:gd name="textAreaTop" fmla="*/ 0 h 628200"/>
                <a:gd name="textAreaBottom" fmla="*/ 628200 h 62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833360" y="6053040"/>
            <a:ext cx="32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ulcan “skunk works”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08800" y="5929200"/>
            <a:ext cx="172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ulcan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3"/>
          <a:stretch/>
        </p:blipFill>
        <p:spPr>
          <a:xfrm>
            <a:off x="406440" y="5788080"/>
            <a:ext cx="834840" cy="933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9520" y="6073920"/>
            <a:ext cx="541440" cy="352440"/>
          </a:xfrm>
          <a:prstGeom prst="leftArrow">
            <a:avLst>
              <a:gd name="adj1" fmla="val 50000"/>
              <a:gd name="adj2" fmla="val 38407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DE25-E30E-41AC-83F1-4DE528C79C0C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8:21:17Z</dcterms:created>
  <dc:creator>mdyson</dc:creator>
  <dc:description/>
  <dc:language>en-US</dc:language>
  <cp:lastModifiedBy>Mark Greaves (2)</cp:lastModifiedBy>
  <dcterms:modified xsi:type="dcterms:W3CDTF">2006-11-07T17:30:23Z</dcterms:modified>
  <cp:revision>274</cp:revision>
  <dc:subject/>
  <dc:title>DARPA UltraLog</dc:title>
</cp:coreProperties>
</file>